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363-49DA-4440-89F1-DBAFDD9D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B404-8F31-479A-A055-E4905C4C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776-6EE0-44F1-B456-97C74412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6A9-5151-4C9E-9B51-CB78F147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DCCF-E27C-461F-BCF9-31BFCAB1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E297-0BF8-4C61-AA16-35D39480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7DA-BBAF-4625-B10F-DBBD9F98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8511-07D1-4C4F-95E5-F1B4093E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331D-A5EA-48BC-A21D-7F264769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20C-CF69-4420-86CB-C2DB09A9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968-A0B9-4727-8AE3-33FD1096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9DB-9501-4643-9C23-06924B2B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C34C-6A5B-4BED-8957-6A9B3FB44EA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684360" y="1052640"/>
            <a:ext cx="3409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5-09-06T11:32:29Z</dcterms:modified>
  <cp:revision>800</cp:revision>
  <dc:subject/>
  <dc:title>Free PPT Backgrounds</dc:title>
</cp:coreProperties>
</file>